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39C7-6CFA-4B49-948B-88BFA3F42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6CC3-A61D-4587-992F-D1E49442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8B52-458F-42F6-8B6E-F737BF6CF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C98D-5427-4F0C-953E-32DC5C23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96BE-79B2-49A5-9BA8-ECF0EE1E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7C16-D467-4684-8243-7353CAFB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7761-B277-4B64-B92C-FFE6F72E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6D54-1B1D-4FDC-A6EA-49C98059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88AB-2AE8-4517-A1A3-BF167F5E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839F-EB00-46B0-B388-7120D428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0B11-D307-4CA4-8503-03FEE7A9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5FEC-E2D9-4C10-83EB-04C50D0C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A971-9689-440C-876A-B4DB045B029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920" y="980640"/>
            <a:ext cx="8424720" cy="4824360"/>
          </a:xfrm>
          <a:prstGeom prst="rect">
            <a:avLst/>
          </a:prstGeom>
          <a:solidFill>
            <a:srgbClr val="ffffff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ساب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هم أساليب التحليل الكمي المستخ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ي تحليل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7CB9-FD10-428A-A4D0-C21B14D0664E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solidFill>
            <a:srgbClr val="e7e5e1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ويات التحلي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2455920"/>
            <a:ext cx="3581640" cy="8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ستوى المشرو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3809880"/>
            <a:ext cx="35812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ستوى الصنا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5157720"/>
            <a:ext cx="42670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ستوى العالم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5166-37F0-4D71-8031-E1CAFEFEDC42}" type="slidenum">
              <a:t>2</a:t>
            </a:fld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741600" y="1477800"/>
            <a:ext cx="7660800" cy="1031400"/>
          </a:xfrm>
          <a:prstGeom prst="rect">
            <a:avLst/>
          </a:prstGeom>
          <a:solidFill>
            <a:srgbClr val="e7e5e1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ساليب المستخدم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36560" y="3366720"/>
            <a:ext cx="7585200" cy="2162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3" marL="137160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مقارنات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عدلات التغي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 rtl="1">
              <a:lnSpc>
                <a:spcPct val="100000"/>
              </a:lnSpc>
              <a:spcBef>
                <a:spcPts val="60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توسط النسب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A6F0-1A72-4E56-87B8-0F3F244C1A91}" type="slidenum">
              <a:t>3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1203120"/>
            <a:ext cx="7772760" cy="763920"/>
          </a:xfrm>
          <a:prstGeom prst="rect">
            <a:avLst/>
          </a:prstGeom>
          <a:gradFill rotWithShape="0">
            <a:gsLst>
              <a:gs pos="0">
                <a:srgbClr val="e7e5e1"/>
              </a:gs>
              <a:gs pos="50000">
                <a:srgbClr val="ffffcc"/>
              </a:gs>
              <a:gs pos="100000">
                <a:srgbClr val="e7e5e1"/>
              </a:gs>
            </a:gsLst>
            <a:lin ang="5400000"/>
          </a:gra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قاييس النزعة المركزية (المتوسطات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492280"/>
            <a:ext cx="7772400" cy="3816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توسط  = المجموع/العدد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خاصة على مستوى الصنا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وسيط = عدد المرات +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 /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نوال = القيمة الاكثر شيوع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2D3D-7A88-4383-A51C-1B2FD925C3CA}" type="slidenum">
              <a:t>4</a:t>
            </a:fld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11280" y="1699920"/>
            <a:ext cx="7772760" cy="912240"/>
          </a:xfrm>
          <a:prstGeom prst="rect">
            <a:avLst/>
          </a:prstGeom>
          <a:gradFill rotWithShape="0">
            <a:gsLst>
              <a:gs pos="0">
                <a:srgbClr val="c7cfc1"/>
              </a:gs>
              <a:gs pos="50000">
                <a:srgbClr val="ffffff"/>
              </a:gs>
              <a:gs pos="100000">
                <a:srgbClr val="c7cfc1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قاييس الاختلاف والتشت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1400" y="3571920"/>
            <a:ext cx="7716960" cy="23781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e7e5e1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معرفة مدى تجمع قيم النسب المالية أو تشتتها حول المتوسط الحسابي عن طريق حساب الانحراف المعياري لكل نسبة من النس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906B-1E01-4F27-A70A-A1495CC9C01A}" type="slidenum">
              <a:t>5</a:t>
            </a:fld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1058760"/>
            <a:ext cx="777276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لاقات الارتباط والانحد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2920" y="2427120"/>
            <a:ext cx="8893080" cy="402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رتباط هو التلازم بين متغيرين تلازما كميا بحيث تؤدي الزيادة في أحد المتغيرين الى زيادة المتغير الآخر أو العك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يقاس عن طريق حساب معامل ارتباط بيرسون أو سبيرم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قربه من الواحد الصحيح يشير الى وجود ارتباط قوي موجب بين المتغير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641664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103D-73E4-4498-9098-BFC82DA37CC4}" type="slidenum">
              <a:t>6</a:t>
            </a:fld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Abu-Ali</cp:lastModifiedBy>
  <dcterms:modified xsi:type="dcterms:W3CDTF">2004-04-06T17:12:41Z</dcterms:modified>
  <cp:revision>22</cp:revision>
  <dc:subject/>
  <dc:title>التحليل المالي والائتماني</dc:title>
</cp:coreProperties>
</file>